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0459-8922-4B77-9288-FBB890159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A0CF-D01D-482D-A1C2-A7D69D3C0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451-CD79-4F09-A713-6693105C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759F-1EAA-4E55-838D-44F482765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E3E2-ADC8-4A82-89DA-713C7E059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2048B-219F-4BCE-A64F-D40C8DD2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0625F-EDCC-4529-89F2-9E8BA31B3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54F0-9422-4B9F-9D70-3B0526E03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711A-19DE-4A29-8D6E-18A22B707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B8208-B2B5-44DB-BDD7-024A65BC0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7295-3754-4CBF-902E-8496E1B4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65C46-C9BC-4939-9682-F87ED36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FA77F-021F-4272-AE37-6AFA8E2FD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59C3B-6FB0-44A9-B8F8-A8750133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56225-316F-42EC-9DE6-C76686C7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50D8-0DCA-45C5-985A-38247EC61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15958-0BA3-49C1-91E5-68EE1D6FC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BC4B4-CEE6-4E4B-B4E2-619FCC55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1070-947D-4003-BFF5-01962C50E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E43C-53DF-476D-9B62-6F2212CD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0925-20C5-4E33-BBB8-20EC4858C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A845-40CB-4EDA-9A09-9D47FF3A2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E8E-74EB-42CE-9E9D-005B3E07D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3013-4654-4E6E-9C0C-1C70DF30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FD337-3F43-4E44-BA75-398E15E754D0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EC6A-44E6-40A1-9AAB-152B7B39BA7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34920" y="1196640"/>
            <a:ext cx="496908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ях у Русского язы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26"/>
          <p:cNvSpPr/>
          <p:nvPr/>
        </p:nvSpPr>
        <p:spPr>
          <a:xfrm>
            <a:off x="3708360" y="4508640"/>
            <a:ext cx="496908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классное мероприятие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русскому языку в 5 класс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 учитель русского языка и литературы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сорова Диана Баянбековна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3512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И В ПЛЕО ЕН ОВИ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оин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шифруйте пословицу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ДЕ МЕРЯВ, А ХЕТЕПО САЧ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строчными буквами предложением с  заглавной буквы в начале и точкой в ко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одсказки - «время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3"/>
          <p:cNvSpPr/>
          <p:nvPr/>
        </p:nvSpPr>
        <p:spPr>
          <a:xfrm>
            <a:off x="3059280" y="3141720"/>
            <a:ext cx="100800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4"/>
          <p:cNvSpPr/>
          <p:nvPr/>
        </p:nvSpPr>
        <p:spPr>
          <a:xfrm>
            <a:off x="2987640" y="6021360"/>
            <a:ext cx="1297080" cy="504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5"/>
          <p:cNvSpPr/>
          <p:nvPr/>
        </p:nvSpPr>
        <p:spPr>
          <a:xfrm>
            <a:off x="7812000" y="6093000"/>
            <a:ext cx="115272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льш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6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й команде по очереди загадываются пословицы с пропущенным словом. Учащиеся должны найти пропущенное слово и перевести его на казахский и английский языки. За каждый правильный ответ вы получите по 1 баллу. Максимальный балл - 3 бал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Трехязыч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8064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пеши ..., торопись дел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зык, тіл, tongue [tʌŋ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ознается в бе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руг, дос, friend [frend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освещается солнцем, а человек – знание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ир, әлем, universe [ju:nɪvɜ:s] или world [wɜ: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траха ... вели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глаза, көз, ey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a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прославляет труд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человек, адам, man [mæn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 – лучший дру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нига, кітап, book [bʊk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тихо-варение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ин из участников команд должен прочитать наизусть стихотворение. Критерии оценивания: название произведения и автор, выразительность, эмоциональность, громкость. Максимальный балл – 4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Условия конкурса: команды выстраиваются в прямую линию. Учитель сообщает скороговорку первому игроку, по сигналу тот шепотом передает ее второму и т.д. Последний должен внятно и громко произнести скороговорку. Критерии оценивание – это внятность и громкость. Максимальный балл – 2 балл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Скорофоно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живом уголке жили ежи да уж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жит ежик у елки, а у ежа игол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гают две курицы прямо по улиц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24300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ершающая иг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33336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ему КВАС пишется слитно, а К ВАМ – раздельн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лово «квас» - имя существительное, а – «к вам» - местоимение с предлогом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существительное состоит из трёх О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РИ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ое местоимение требует чистоты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О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к птицы – это первый сло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ой – известен всем предлог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третий – бурная волн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перь шарада всем ясн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АР – НА – ВА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Ы мы мчим вас что есть м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У – мы ноги вам промочи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ЫЖИ – ЛУЖ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http://www.belgdb.ru/assets/templates/project/2015/teenager/under_sun/img/main.png"/>
          <p:cNvPicPr/>
          <p:nvPr/>
        </p:nvPicPr>
        <p:blipFill>
          <a:blip r:embed="rId1"/>
          <a:stretch/>
        </p:blipFill>
        <p:spPr>
          <a:xfrm>
            <a:off x="395280" y="1628640"/>
            <a:ext cx="8271000" cy="489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Беспроигрышная лотере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илеты под номерами 101, 102, 103, 104 – получают офицерские линей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5, 106, 107 – цветные карандаш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08, 109, 110 – блокн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1, 112, 113 – клей П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4, 115 – руч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омера 116, 117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ная литератур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мпиадные задания «Глаголъ» для 5 класса по русскому язы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блоны презентаций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templated.ru/obrazovanie/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пычева Марина Станиславовна. Открытое внеклассное мероприятие на тему: «В гостях у русского языка».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http://www.openclass.ru/node/16763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spcAft>
                <a:spcPts val="1001"/>
              </a:spcAft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Ирина Александровна Остряков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. </a:t>
            </a:r>
            <a:r>
              <a:rPr b="0" lang="ru-RU" sz="2400" spc="-1" strike="noStrike">
                <a:solidFill>
                  <a:srgbClr val="0000ff"/>
                </a:solidFill>
                <a:latin typeface="Times New Roman"/>
                <a:ea typeface="Calibri"/>
              </a:rPr>
              <a:t>Сценарий открытия недели русского язык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ru-RU" sz="2400" spc="-1" strike="noStrike">
                <a:solidFill>
                  <a:srgbClr val="0070c0"/>
                </a:solidFill>
                <a:latin typeface="Times New Roman"/>
                <a:ea typeface="Calibri"/>
              </a:rPr>
              <a:t>http://www.proshkolu.ru/contest/nedelya/file2/242567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19280" y="1600200"/>
            <a:ext cx="706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сский, польский и английски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альянский и бельгийский 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говорные друз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о чем же это 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tretch/>
        </p:blipFill>
        <p:spPr>
          <a:xfrm>
            <a:off x="5796000" y="3141720"/>
            <a:ext cx="2879640" cy="3311640"/>
          </a:xfrm>
          <a:prstGeom prst="rect">
            <a:avLst/>
          </a:prstGeom>
          <a:ln w="9360">
            <a:solidFill>
              <a:srgbClr val="97470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116000" y="115920"/>
            <a:ext cx="764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чно, с детства ты зна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еликим Русским Языком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, чтобы грамотным прослыть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меть красиво говори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хорошо учиться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ним стоит подружитьс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, между прочим, он сейча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дёт не дождётся в гости нас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ам открыть тебе го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креты звуков, букв и сл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556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иветствие»</a:t>
            </a:r>
            <a:br>
              <a:rPr sz="44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 бал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Алфавит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ветствуем команду «Словосочетани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http://3.bp.blogspot.com/-1JE3BamWQqI/Usw8Iv4dOVI/AAAAAAAAChg/sXooFefFsFA/s1600/%D0%9F%D1%80%D0%B8%D0%B2%D0%B5%D1%82.png"/>
          <p:cNvPicPr/>
          <p:nvPr/>
        </p:nvPicPr>
        <p:blipFill>
          <a:blip r:embed="rId1"/>
          <a:stretch/>
        </p:blipFill>
        <p:spPr>
          <a:xfrm>
            <a:off x="6732720" y="189000"/>
            <a:ext cx="2103480" cy="1877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4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6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19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Фонетическое лакомство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 </a:t>
            </a:r>
            <a:br>
              <a:rPr sz="36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балл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ремя для ответа – 3 мину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94920" y="1557360"/>
            <a:ext cx="431964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Алфавит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а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61080" y="1557360"/>
            <a:ext cx="4319280" cy="42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анда «Словосочетание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ите, сколько раз в загадке встречается звук [о]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мотрите, дом стоит,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краёв водой налит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 окошек, но не мрачный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четырёх сторон прозрачный.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домике жильцы —</a:t>
            </a:r>
            <a:br>
              <a:rPr sz="2400"/>
            </a:b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прекрасные пловц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вет запишите цифр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8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06400" y="83628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ую строчку не сможет прочитать ни один человек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Швейн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руки бывают местоимения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гда они ВЫ-МЫ-Т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овите местоимения, которые мешают водителям на дорог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Я-МЫ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Р она течё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буквой П для вас печёт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улебяки и ватрушки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т кашу и галушк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ЧКА – ПЕЧКА)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можно видеть с закрытыми глазами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О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35120" y="4428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Анаграмма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826560" y="1125360"/>
            <a:ext cx="820908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Анаграмма — перестановка букв в слове, создающая новое слово (например, роман — норма). Вам необходимо составить к данным словам новые слова. За правильный ответ вы получите по 1 баллу. Время для ответа–2 минут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Алфавит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на 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оманда «Словосочетани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ставьте к данному слову  одно новое: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Calibri"/>
              </a:rPr>
              <a:t>кабан -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428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 с болельщикам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35120" y="63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ие какого дерева состоит из четырёх предлогов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-О-С-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какого фразеологизма марсиане могли бы заключить, что у человека не две ноги, а больш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БЕЖАТЬ СО ВСЕХ НОГ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ли ноги у газеты, книги, журнал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СТЬ, КОГДА ИХ ДЕРЖАТ «ВВЕРХ НОГАМИ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глухим траву она срезает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 звонким – листья объеда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ОСА – КОЗ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й первый слог найдёшь тог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гда в котле кипит вод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именье – слог второй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в целом – столик школьный тво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46960" indent="-246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АР – Т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юдо-конкурс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гадочное царство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этом царстве вам предстоит расшифровать пословицу.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Ответ запишите строчными буквами предложением с  заглавной буквы в начале и точкой в конце. Оцениваться задание будет пятибалльной шкале: грамотность, соблюдение орфографических норм, полнота ответа, время, не использование подсказки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мя для ответа – 4 мину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7T17:55:06Z</dcterms:created>
  <dc:creator>Mariajose</dc:creator>
  <dc:description/>
  <dc:language>en-US</dc:language>
  <cp:lastModifiedBy>User</cp:lastModifiedBy>
  <dcterms:modified xsi:type="dcterms:W3CDTF">2017-01-29T16:07:18Z</dcterms:modified>
  <cp:revision>44</cp:revision>
  <dc:subject/>
  <dc:title>Diapositiva 1</dc:title>
</cp:coreProperties>
</file>